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3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90602-B148-4B7D-BC65-2CCBE0C5B3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165EF-B753-40C0-AE2B-B3FC810AF6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CC644-D882-4A8C-82F7-1FDF26C3AD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152F2-E56C-4266-A5B1-3BC64F1012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1D2F4-F67E-4C4E-BF20-6A59E7DFC7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39B71-4116-4FA2-A017-FF4E1E7455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D3DF0-7604-4235-A26D-A2F6747294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169E4-E682-408B-B87F-21DDB99208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2BD44-D8DB-42EF-BA90-688B62E6F4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F6467-73AF-490B-905C-51CC0B5B8B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5EA7E-52B7-4168-A1EC-02103E923A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2921F-5B4A-4210-88D7-AD8FBF414C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DC49-68F1-4D79-B1F1-8ED9E1C2977E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238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let this happen to you – Client Migration Tips</a:t>
            </a:r>
            <a:br>
              <a:rPr sz="2000"/>
            </a:br>
            <a:br>
              <a:rPr sz="20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 System Administrator, Met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.  Be Prepared and Have a Plan!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Setting Up the Environment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Life z/OS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User, Client-server, All DB2 for M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Connect as 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867280" y="990720"/>
            <a:ext cx="2751120" cy="39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EBCB3-0893-4640-A8D0-027DC8B96F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Life z/OS Configu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:  z/OS 1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upgraded to 64 bit proces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100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upgrade to z/0S 1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ware:  DB2 Connect Version 7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Toolkit Version 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E4924-30D4-49AE-B250-F286D2F3EA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Life Client-Server Configu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80880" y="2743200"/>
            <a:ext cx="1981440" cy="914400"/>
            <a:chOff x="380880" y="2743200"/>
            <a:chExt cx="1981440" cy="914400"/>
          </a:xfrm>
        </p:grpSpPr>
        <p:sp>
          <p:nvSpPr>
            <p:cNvPr id="172" name=""/>
            <p:cNvSpPr/>
            <p:nvPr/>
          </p:nvSpPr>
          <p:spPr>
            <a:xfrm>
              <a:off x="380880" y="2743200"/>
              <a:ext cx="1981440" cy="914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0880" y="2895840"/>
              <a:ext cx="19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Interchange Cli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28600" y="464832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464832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34290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200400"/>
            <a:ext cx="1676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2 Conn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838080"/>
            <a:ext cx="2819520" cy="3886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1219320"/>
            <a:ext cx="213372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198108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SO Attach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2920" y="1981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29400" y="39625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unTime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81680" y="4952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VS or z/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57800" y="261936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iddleware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38280" y="297180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4038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62320" y="4038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5627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fi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556272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ustTi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289548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3429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C70BF-7EFE-44FA-A0D8-5E88F6C75E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iddleware:  DB2Connect Version 7.2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66294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time updating to the host in client-server mode via ODBC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 for multi-user environment working with DataInterchange Client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er “up”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utilization is b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248520" y="914400"/>
            <a:ext cx="2023920" cy="299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691E9-B6B7-436D-866B-FA400111D1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ACF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invokes RACF to determine access to 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NT user privileges to the DB2/MVS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SELECT, INSERT, UPDATE and DELETE privileges on subset of tables in our test environment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 for RunTime and CustTime databas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DataInterchang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ously had multiple RACF profiles defined by project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olidation of profiles to user’s a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6DD96-C5B7-478C-96E5-F05FBC4A85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Toolkit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45259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3.1 - requires XML Toolkit version 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upward compatibility with later versions of the toolk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Life already upgraded to version 1.2 of the XML Toolkit. Therefore not able to use the XML Toolkit at this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762360" cy="351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737CE-0627-45D3-8F50-D0D35DE276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3.  Be Adaptable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DI Host to DI Client Migr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50292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differences between host and client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tables EDIPSDI and EDITPCM reside in both RunTime and CustTime data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to note that once converted to the Client, a transaction must be maintained on the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ing convention changes for DataInterchange Client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n independent browser-based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DI Client 3.1 installed on PC or lap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019920" y="2057400"/>
            <a:ext cx="2673360" cy="375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6E6A4-6985-4F53-B15D-916FB5DA0E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UNTIME vs. CUSTTIME databas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60501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we create the  CUSTTIME client format database in a separate database from the RUNTIME database on the ho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erned with migration to DI 4.1 and single databas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ually, only logical groups of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pt in one database but used separate high level qualif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172200" y="2971800"/>
            <a:ext cx="2571840" cy="26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69055-A04B-48B3-8D0B-F6AF987D5A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B2 Connect Logi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Client login requires two entries of TSO id and password due to the two databases being connect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TIME as MVS hos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TIME as client forma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 the temptation to hard-code the TSO id and password into the ODB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BD865-CE3D-4B6C-AB33-9CE1B008AD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4.  Assess The Risk and Be Proactive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DI Client Deployment)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52880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al login using DI Client 3.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2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ns the “cach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2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O passwords updated or changed on the mainframe are properly reflected within the ODB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two complete DataInterchange Client 3.1 subsystems within our lab environments for testing of PTF’s and regular RSU mainten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248520" y="1219320"/>
            <a:ext cx="2409840" cy="256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CE7ED-41DC-4368-85B7-B1976E6940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1 U.S. Life Insurer  -  $2.4 trillion life insurance in-for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s of 12/31/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non-medical provider of institutional employee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benefits to 37 million employees and family members through their plan sponsors and 88 of Fortune 100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ked #1 in most group product areas - life, dental, auto and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, and long-term care; and the #1 commercial dental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876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.S. -   approximately 12 million individuals in the U.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876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tional - 8 million customers in 12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d on NYSE - April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76720" y="838080"/>
            <a:ext cx="212400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0BC5F-E984-4E79-9A0B-5F74319DB2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sion Issu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end-users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Client 3.1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ility to convert existing Maps, as nee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converted, must be updated and maintained in DI Cli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E9075-4FB2-4DF1-9455-EAA5D5200D5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5.  Enjoy The Ride 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Future Direc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54403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/OS Server Pack 1.4 include WebSphere Data Interchange V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house and being installed in one of the lab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 Transformation using WDI 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638680" y="1295280"/>
            <a:ext cx="3100680" cy="41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BE8BA-A963-43FF-9657-90788B77CD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ummary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your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prepared and have a pla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dap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 the risk and be pro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 the rid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32D86-99D0-486D-98A0-0514AD6353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on’t Let This Happen To You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- DI Client 3.1 Migration Tip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johnsen@metlif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80968-9B88-4439-8797-DE13B3BC03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0">
              <a:lnSpc>
                <a:spcPct val="11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s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.S. Insurance and Financial Services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dividual 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ncial planning, life insurance, annuities, long-term care, disability, mutual funds and secu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stitutional 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insurance, retirement and savings, group non-medical health (e.g., short- and long-term disability, long-term care, dental) and voluntary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tional Operatio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insurance, accident and health, annuities, retirement and savings, automobile and homeowner’s insura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t Managemen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tual funds, separate accounts and real estate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 &amp; Hom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obile, homeowner’s, boat, excess liability and miscellaneous personal lines property and casualty 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insuran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reinsurance, facultative and automatic, as well as financial re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00400" y="685800"/>
            <a:ext cx="212400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4427A-245A-499E-9B5A-91F5310FD4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on’t Let This Happen To You - Client Migration Tip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Migration Over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up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Host to DI Client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2B11B-1DC1-4CC8-969A-ADBFF51A67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14600" y="6858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89fb"/>
                </a:solidFill>
                <a:latin typeface="Arial"/>
              </a:rPr>
              <a:t>Survival Ti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02320" y="2863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971800" y="685800"/>
            <a:ext cx="2743200" cy="49528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312408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Migration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up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Host to DI Client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523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1295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your Environ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2362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21337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Prepared and Have a Plan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4120" y="34894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32608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dap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43434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41148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 the Risk and Be Proac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51814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 the Ride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53341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42A64-7E7C-49C7-B948-61B580317B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1.  Know Your Environmen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Client Migration Overview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use the Cli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star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to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019920" y="121932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0AEF2-5BD8-4DD5-9D3A-95C97855B3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y Use The Client?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PAA 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 computing power of the main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have multiple systems up at the sam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 MetLife for the move to Web Sphere Data Interchange 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010280" y="533520"/>
            <a:ext cx="1295640" cy="39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1A212-3479-4A32-8B69-000D74526E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ere We Started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61261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/390 MVS System 2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DB2 Subsystems config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2.1 - Hos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need of several levels of maintenance and PTF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876920" y="609480"/>
            <a:ext cx="4016160" cy="394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EAA39-92BF-4E44-A517-80F7806151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ere We Are Toda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/OS MVS System - 01.02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7 environ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DB2 Sub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Lab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3.1 - on Host and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on all maintenance and PTF’s to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962520" y="685800"/>
            <a:ext cx="4219560" cy="395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C47DC-2865-4169-B96A-A864932BDD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13:49:33Z</dcterms:created>
  <dc:creator>MetLife</dc:creator>
  <dc:description/>
  <dc:language>en-US</dc:language>
  <cp:lastModifiedBy>IBM_USER</cp:lastModifiedBy>
  <cp:lastPrinted>2003-08-19T18:25:27Z</cp:lastPrinted>
  <dcterms:modified xsi:type="dcterms:W3CDTF">2003-09-17T17:35:07Z</dcterms:modified>
  <cp:revision>54</cp:revision>
  <dc:subject/>
  <dc:title>WebSphere Data Interchange  Soaring Into the Future</dc:title>
</cp:coreProperties>
</file>